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jpeg" ContentType="image/jpeg"/>
  <Override PartName="/ppt/media/image5.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A8273-EBBB-4436-9D7D-292E68AAC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C1CA9-0689-4637-8E10-AE63716D2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164A7-AF27-4F8A-9E6D-06C90FAD0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81291-06BB-4477-9F18-4F123003E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7F7A9-D69F-4F52-901D-AA7540670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E5A8-662B-483E-BC13-9E085BAB4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71EAF-8F9E-490F-89A2-5EC67910D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876C5-0A3C-40AA-B2FC-FDD3C352E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35FB7-7504-411F-A597-831688A3B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D0224-BB0A-4F6E-9FFA-D8FB61CD7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9F69F-9F65-49C0-923A-46AEE460F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4111-9020-4A3A-B031-5D4C178B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CEE5-E39F-409B-920A-4716D680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287E0-F222-4612-BC1B-CBD35D0A4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642BB-F9E9-42D0-8791-C047ED656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2DB7F-8567-4215-82D9-E7B5B400E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A3958-766D-4DBD-8D6D-EC281ED15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92AFF-C2F8-4515-830F-A3F055242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C018E-5CA0-43D5-A5E9-FD18F7F45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04D7A-9B17-4937-BB5A-9DD7F42CA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94F28-04B7-4915-9F83-79C8B8243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B9A73-2F21-4548-B48D-7BF282920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6171-B576-484A-9670-3D0CDA792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65B1C-9FC6-439C-8FB4-6709E4DFF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BBF34-6859-4257-85D3-B9B132BC0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5839A-BB20-4873-AEF2-E11119442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7AC0D-0D6A-4243-87B0-B4C4AE9F8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E2EF7-E6F7-4C7C-92AD-392D24450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448150-DE4D-45B8-B88C-F4284E6F7D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2485AA-8836-4132-AF33-290020DDDA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C234B5-FBC2-455C-9B86-5DF5309A7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61DF6-C8F6-4F14-89E3-E2F68E911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C7D88-42CA-4BA2-B49B-9EE2D736D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D6A0-B8F9-454A-B920-8567F40A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41236-C018-457E-9F82-E16D80731D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37D8D-2FE5-41FE-ABDE-79A79814C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C9F6B-6234-4CC7-B16A-A70442647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85BB7-2727-476E-BE03-3B0587F7B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62620-9939-4DEA-B641-1A9CAE409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06F4B-4510-40FA-AE7C-7FDBD9973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D260A-EAC3-466E-84EA-442B9229D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37EF13-CCEE-40F7-BDBE-C1F3C894C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EA0A4D-818B-493A-B2B3-A0CA9E6331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E5C4A4-8066-41A0-9D1E-32C80F0896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74B1-59C2-44D9-9DDF-CBF06E31E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1DC31-6B5E-4C32-B4A8-01D1F5074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3311E-6D91-40C3-A708-ECA4D1414C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13C1B2-36A4-4B1F-A7A2-F0A669615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CA75C-42AB-4C07-A4B2-222B74663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A8475-1B2B-4185-991A-8AF44536C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8E359-D9B4-451E-A5A5-8A30EE5E6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D7CFA-6BCB-43C6-8EA8-47C098C9E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BE084-2AFA-4D29-9D83-DF4505D61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B1023-D8D8-4246-9A57-22659082F7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15B66-64B0-4078-B2F1-8AE68D9A7E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30F7-4A61-4825-A92C-971896BF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513F1-1B5D-4042-9D80-AB13E93009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261A9FD-F23F-4596-BB33-77EE498D3E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1E4CDD-477B-4D79-8FA3-0FD286CFF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AF3ACD-C88D-4719-87C0-E420D2855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C20B73D-203D-498D-80C3-37046BC9E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A2916A-B4D2-49D9-AD8B-54F7934D42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BECC27F-89A6-4A39-A0F6-F079A8B2D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3A7CA4-47E2-4446-8A39-60909A7A85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1542696-3196-425C-84A5-5EC6F44AC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C64A2F-819E-4639-8772-1400197FE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BCC67-7DD7-42C9-BE69-76CAD8B63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2A7139-4C85-4BDB-8D83-90C6DC9132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5BA7D0-A318-47AE-9A66-734A019238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0F63720-8B81-424E-9348-FEF14C512D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EACD7-ED9A-4BE7-8170-6ACAB557AA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8DF3B-3A05-49E2-A28B-41933401F2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A410A-FEB3-4096-96A6-874BBD02B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F7E6B9-4E3A-46AF-8638-FBA159C87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7A5B7-6D88-4C85-AA26-4654815D2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1BF18-57EB-46CF-9B0B-3003DD447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C97E3-5D93-45F6-8AAE-6C930162C0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4DC1-B836-4E7F-8388-47EF574B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9A4E5-4377-4640-AD07-CF4DCCFC7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3A4FB-0AC1-450B-8555-D58B34E19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67D023-8803-4A10-9FDF-60565355F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D43E83-5F8F-4DF6-833B-60E769D9D6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1ECC6C-7CB7-4A1F-B1E2-DA43E3D299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0E2F-47D0-44F0-93D4-97216743E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96BD-86D1-4518-B95F-39C5B283FC52}"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30EA-505C-45D8-B9F7-6B66FCC2758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74680"/>
            <a:ext cx="8594640" cy="1334880"/>
            <a:chOff x="274680" y="274680"/>
            <a:chExt cx="8594640" cy="1334880"/>
          </a:xfrm>
        </p:grpSpPr>
        <p:pic>
          <p:nvPicPr>
            <p:cNvPr id="7" name="Rectangle 8" descr=""/>
            <p:cNvPicPr/>
            <p:nvPr/>
          </p:nvPicPr>
          <p:blipFill>
            <a:blip r:embed="rId3"/>
            <a:stretch/>
          </p:blipFill>
          <p:spPr>
            <a:xfrm>
              <a:off x="274680" y="274680"/>
              <a:ext cx="8594640" cy="1334880"/>
            </a:xfrm>
            <a:prstGeom prst="rect">
              <a:avLst/>
            </a:prstGeom>
            <a:ln w="0">
              <a:noFill/>
            </a:ln>
          </p:spPr>
        </p:pic>
        <p:sp>
          <p:nvSpPr>
            <p:cNvPr id="8" name=""/>
            <p:cNvSpPr/>
            <p:nvPr/>
          </p:nvSpPr>
          <p:spPr>
            <a:xfrm>
              <a:off x="274680" y="277920"/>
              <a:ext cx="859464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49" name="Rectangle 12"/>
          <p:cNvGrpSpPr/>
          <p:nvPr/>
        </p:nvGrpSpPr>
        <p:grpSpPr>
          <a:xfrm>
            <a:off x="341280" y="2938320"/>
            <a:ext cx="7156440" cy="2468880"/>
            <a:chOff x="341280" y="2938320"/>
            <a:chExt cx="7156440" cy="2468880"/>
          </a:xfrm>
        </p:grpSpPr>
        <p:pic>
          <p:nvPicPr>
            <p:cNvPr id="50" name="Rectangle 12" descr=""/>
            <p:cNvPicPr/>
            <p:nvPr/>
          </p:nvPicPr>
          <p:blipFill>
            <a:blip r:embed="rId3"/>
            <a:stretch/>
          </p:blipFill>
          <p:spPr>
            <a:xfrm>
              <a:off x="341280" y="2938320"/>
              <a:ext cx="7156440" cy="2468880"/>
            </a:xfrm>
            <a:prstGeom prst="rect">
              <a:avLst/>
            </a:prstGeom>
            <a:ln w="0">
              <a:noFill/>
            </a:ln>
          </p:spPr>
        </p:pic>
        <p:sp>
          <p:nvSpPr>
            <p:cNvPr id="51" name=""/>
            <p:cNvSpPr/>
            <p:nvPr/>
          </p:nvSpPr>
          <p:spPr>
            <a:xfrm>
              <a:off x="345960" y="2943360"/>
              <a:ext cx="714708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08AC-4D9E-4B59-91BE-010F4C831D16}"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3BE1-7776-40A2-8BC1-0EC460F575A6}"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90A9-2942-413A-9782-924680B7CE59}"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58A1-44A3-420E-A684-9F2EC693CC8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1F47-5B72-474E-A623-1BE5BADB17DF}"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1E97-3A62-4DF5-883E-DA6237B40A5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194" name="Rectangle 12"/>
          <p:cNvGrpSpPr/>
          <p:nvPr/>
        </p:nvGrpSpPr>
        <p:grpSpPr>
          <a:xfrm>
            <a:off x="554040" y="1504800"/>
            <a:ext cx="2725560" cy="3524400"/>
            <a:chOff x="554040" y="1504800"/>
            <a:chExt cx="2725560" cy="3524400"/>
          </a:xfrm>
        </p:grpSpPr>
        <p:pic>
          <p:nvPicPr>
            <p:cNvPr id="195" name="Rectangle 12" descr=""/>
            <p:cNvPicPr/>
            <p:nvPr/>
          </p:nvPicPr>
          <p:blipFill>
            <a:blip r:embed="rId3"/>
            <a:stretch/>
          </p:blipFill>
          <p:spPr>
            <a:xfrm>
              <a:off x="554040" y="1504800"/>
              <a:ext cx="272556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223B-F7E6-4720-ACBC-3C8400137BDD}"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1F42-2212-4FD8-9311-39471263364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1" name="Rectangle 12"/>
          <p:cNvGrpSpPr/>
          <p:nvPr/>
        </p:nvGrpSpPr>
        <p:grpSpPr>
          <a:xfrm>
            <a:off x="682560" y="4950000"/>
            <a:ext cx="7778880" cy="1377720"/>
            <a:chOff x="682560" y="4950000"/>
            <a:chExt cx="7778880" cy="1377720"/>
          </a:xfrm>
        </p:grpSpPr>
        <p:pic>
          <p:nvPicPr>
            <p:cNvPr id="242" name="Rectangle 12" descr=""/>
            <p:cNvPicPr/>
            <p:nvPr/>
          </p:nvPicPr>
          <p:blipFill>
            <a:blip r:embed="rId3"/>
            <a:stretch/>
          </p:blipFill>
          <p:spPr>
            <a:xfrm>
              <a:off x="682560" y="4950000"/>
              <a:ext cx="7778880" cy="1377720"/>
            </a:xfrm>
            <a:prstGeom prst="rect">
              <a:avLst/>
            </a:prstGeom>
            <a:ln w="0">
              <a:noFill/>
            </a:ln>
          </p:spPr>
        </p:pic>
        <p:sp>
          <p:nvSpPr>
            <p:cNvPr id="243" name=""/>
            <p:cNvSpPr/>
            <p:nvPr/>
          </p:nvSpPr>
          <p:spPr>
            <a:xfrm>
              <a:off x="685800" y="4952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7C42-6150-4DF8-B406-513A0C01D13A}"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74C4-778F-4553-BE99-438EF01D50C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8F5B-2278-4E7F-AAAB-D6A2BD89B401}"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C90A-81B8-49B6-B817-0522627D47D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42600" y="4648320"/>
            <a:ext cx="6553080" cy="4572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y: kamalei Correa</a:t>
            </a:r>
            <a:endParaRPr b="0" lang="en-US" sz="1800" spc="-1" strike="noStrike">
              <a:solidFill>
                <a:srgbClr val="564b3c"/>
              </a:solidFill>
              <a:latin typeface="Century Gothic"/>
            </a:endParaRPr>
          </a:p>
        </p:txBody>
      </p:sp>
      <p:sp>
        <p:nvSpPr>
          <p:cNvPr id="332"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34c"/>
                </a:solidFill>
                <a:latin typeface="Book Antiqua"/>
              </a:rPr>
              <a:t>Spring Break Project</a:t>
            </a:r>
            <a:endParaRPr b="0" lang="en-US" sz="4000" spc="-1" strike="noStrike">
              <a:solidFill>
                <a:srgbClr val="6b7d72"/>
              </a:solidFill>
              <a:latin typeface="Book Antiqua"/>
            </a:endParaRPr>
          </a:p>
        </p:txBody>
      </p:sp>
      <p:pic>
        <p:nvPicPr>
          <p:cNvPr id="333" name="Picture 3" descr="micah mahu.jpeg"/>
          <p:cNvPicPr/>
          <p:nvPr/>
        </p:nvPicPr>
        <p:blipFill>
          <a:blip r:embed="rId1"/>
          <a:stretch/>
        </p:blipFill>
        <p:spPr>
          <a:xfrm>
            <a:off x="444600" y="174600"/>
            <a:ext cx="5481360" cy="255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b7d72"/>
                </a:solidFill>
                <a:latin typeface="Book Antiqua"/>
              </a:rPr>
              <a:t>Civil War</a:t>
            </a:r>
            <a:endParaRPr b="0" lang="en-US" sz="3200" spc="-1" strike="noStrike">
              <a:solidFill>
                <a:srgbClr val="6b7d72"/>
              </a:solidFill>
              <a:latin typeface="Book Antiqua"/>
            </a:endParaRPr>
          </a:p>
        </p:txBody>
      </p:sp>
      <p:sp>
        <p:nvSpPr>
          <p:cNvPr id="335"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basic weapon of an infantry soldier was the single-shot, muzzle-loading percussion musket. Foremost among these was the Springfield, manufactured at the U.S. Armory in Springfield, Massachusetts, and at other locations. All were generically referred to as Springfields by the troops. By the end of the war, total production approached 1.5 million weapons. The Springfield had a 39 inch long rifled barrel, and could fire a .58 caliber bullet effectively at targets 500 yards distan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Infantry </a:t>
            </a:r>
            <a:endParaRPr b="0" lang="en-US" sz="3500" spc="-1" strike="noStrike">
              <a:solidFill>
                <a:srgbClr val="6b7d72"/>
              </a:solidFill>
              <a:latin typeface="Book Antiqua"/>
            </a:endParaRPr>
          </a:p>
        </p:txBody>
      </p:sp>
      <p:pic>
        <p:nvPicPr>
          <p:cNvPr id="337" name="Picture 2" descr="kolkol.jpeg"/>
          <p:cNvPicPr/>
          <p:nvPr/>
        </p:nvPicPr>
        <p:blipFill>
          <a:blip r:embed="rId1"/>
          <a:stretch/>
        </p:blipFill>
        <p:spPr>
          <a:xfrm>
            <a:off x="277920" y="1690560"/>
            <a:ext cx="8569080" cy="493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ailroad</a:t>
            </a:r>
            <a:endParaRPr b="0" lang="en-US" sz="3500" spc="-1" strike="noStrike">
              <a:solidFill>
                <a:srgbClr val="6b7d72"/>
              </a:solidFill>
              <a:latin typeface="Book Antiqua"/>
            </a:endParaRPr>
          </a:p>
        </p:txBody>
      </p:sp>
      <p:sp>
        <p:nvSpPr>
          <p:cNvPr id="339"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When the war began, there were approximately nineteen million people living in the United States. Of these, nine million were living in the South, of which three and one-half million were in bondage. The South was largely a society dependent on cash crops such as tobacco and cotton and, to a lesser extent, staple crops to feed its peoples and armies. In all of the states which attempted to leave the Union, and the South was at a distinct disadvantage in men, material, transportation and productive abilities.</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ailroad</a:t>
            </a:r>
            <a:endParaRPr b="0" lang="en-US" sz="3500" spc="-1" strike="noStrike">
              <a:solidFill>
                <a:srgbClr val="6b7d72"/>
              </a:solidFill>
              <a:latin typeface="Book Antiqua"/>
            </a:endParaRPr>
          </a:p>
        </p:txBody>
      </p:sp>
      <p:pic>
        <p:nvPicPr>
          <p:cNvPr id="341" name="Picture 2" descr="railroad.jpeg"/>
          <p:cNvPicPr/>
          <p:nvPr/>
        </p:nvPicPr>
        <p:blipFill>
          <a:blip r:embed="rId1"/>
          <a:stretch/>
        </p:blipFill>
        <p:spPr>
          <a:xfrm>
            <a:off x="276120" y="1663560"/>
            <a:ext cx="8599680" cy="48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Progressive Era</a:t>
            </a:r>
            <a:endParaRPr b="0" lang="en-US" sz="3500" spc="-1" strike="noStrike">
              <a:solidFill>
                <a:srgbClr val="6b7d72"/>
              </a:solidFill>
              <a:latin typeface="Book Antiqua"/>
            </a:endParaRPr>
          </a:p>
        </p:txBody>
      </p:sp>
      <p:sp>
        <p:nvSpPr>
          <p:cNvPr id="343"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President Roosevelt held the ideal that the Government should be the great arbiter of the conflicting economic forces in the Nation, especially between capital and labor, guaranteeing justice to each and dispensing favors to none.</a:t>
            </a:r>
            <a:endParaRPr b="0" lang="en-US" sz="2400" spc="-1" strike="noStrike">
              <a:solidFill>
                <a:srgbClr val="564b3c"/>
              </a:solidFill>
              <a:latin typeface="Century Gothic"/>
            </a:endParaRPr>
          </a:p>
        </p:txBody>
      </p:sp>
      <p:pic>
        <p:nvPicPr>
          <p:cNvPr id="344" name="Picture 2" descr="prsident.jpeg"/>
          <p:cNvPicPr/>
          <p:nvPr/>
        </p:nvPicPr>
        <p:blipFill>
          <a:blip r:embed="rId1"/>
          <a:stretch/>
        </p:blipFill>
        <p:spPr>
          <a:xfrm>
            <a:off x="2490840" y="3781440"/>
            <a:ext cx="4035240" cy="29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Reinsurance Treaty</a:t>
            </a:r>
            <a:endParaRPr b="0" lang="en-US" sz="3500" spc="-1" strike="noStrike">
              <a:solidFill>
                <a:srgbClr val="6b7d72"/>
              </a:solidFill>
              <a:latin typeface="Book Antiqua"/>
            </a:endParaRPr>
          </a:p>
        </p:txBody>
      </p:sp>
      <p:sp>
        <p:nvSpPr>
          <p:cNvPr id="346"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s document stated that both powers would remain neutral if either were involved in a war with a third. However, should that third power transpire to be France, Russia would not be obliged to provide assistance to Germany. Bismarck's intention was to avoid the possibility of a two-front war against both France and Russia.</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Unsettled Empires/Balkins</a:t>
            </a:r>
            <a:endParaRPr b="0" lang="en-US" sz="3500" spc="-1" strike="noStrike">
              <a:solidFill>
                <a:srgbClr val="6b7d72"/>
              </a:solidFill>
              <a:latin typeface="Book Antiqua"/>
            </a:endParaRPr>
          </a:p>
        </p:txBody>
      </p:sp>
      <p:sp>
        <p:nvSpPr>
          <p:cNvPr id="348"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me 1914, trouble was not restricted to the smaller nations outlined above.  The Austro-Hungarian empire was directly impacted by troubles in the Balkans and, under the ageing Emperor Franz Josef, was patently struggling to maintain coherence of the various diametrically opposed ethnic groups which fell under the Austro-Hungarian umbrella.</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 descr="111111111111111111.jpeg"/>
          <p:cNvPicPr/>
          <p:nvPr/>
        </p:nvPicPr>
        <p:blipFill>
          <a:blip r:embed="rId1"/>
          <a:stretch/>
        </p:blipFill>
        <p:spPr>
          <a:xfrm>
            <a:off x="212760" y="50760"/>
            <a:ext cx="3670200" cy="3378240"/>
          </a:xfrm>
          <a:prstGeom prst="rect">
            <a:avLst/>
          </a:prstGeom>
          <a:ln w="0">
            <a:noFill/>
          </a:ln>
        </p:spPr>
      </p:pic>
      <p:sp>
        <p:nvSpPr>
          <p:cNvPr id="350" name="TextBox 2"/>
          <p:cNvSpPr/>
          <p:nvPr/>
        </p:nvSpPr>
        <p:spPr>
          <a:xfrm>
            <a:off x="212760" y="3429000"/>
            <a:ext cx="367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Balkins</a:t>
            </a:r>
            <a:endParaRPr b="0" lang="en-US" sz="1800" spc="-1" strike="noStrike">
              <a:solidFill>
                <a:srgbClr val="000000"/>
              </a:solidFill>
              <a:latin typeface="Century Gothic"/>
            </a:endParaRPr>
          </a:p>
        </p:txBody>
      </p:sp>
      <p:pic>
        <p:nvPicPr>
          <p:cNvPr id="351" name="Picture 3" descr="ww1.jpeg"/>
          <p:cNvPicPr/>
          <p:nvPr/>
        </p:nvPicPr>
        <p:blipFill>
          <a:blip r:embed="rId2"/>
          <a:stretch/>
        </p:blipFill>
        <p:spPr>
          <a:xfrm>
            <a:off x="4127400" y="50760"/>
            <a:ext cx="4340160" cy="3400560"/>
          </a:xfrm>
          <a:prstGeom prst="rect">
            <a:avLst/>
          </a:prstGeom>
          <a:ln w="0">
            <a:noFill/>
          </a:ln>
        </p:spPr>
      </p:pic>
      <p:sp>
        <p:nvSpPr>
          <p:cNvPr id="352" name="TextBox 4"/>
          <p:cNvSpPr/>
          <p:nvPr/>
        </p:nvSpPr>
        <p:spPr>
          <a:xfrm>
            <a:off x="4127400" y="3429000"/>
            <a:ext cx="43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World War I</a:t>
            </a:r>
            <a:endParaRPr b="0" lang="en-US" sz="1800" spc="-1" strike="noStrike">
              <a:solidFill>
                <a:srgbClr val="000000"/>
              </a:solidFill>
              <a:latin typeface="Century Gothic"/>
            </a:endParaRPr>
          </a:p>
        </p:txBody>
      </p:sp>
      <p:pic>
        <p:nvPicPr>
          <p:cNvPr id="353" name="Picture 5" descr="treaty.jpeg"/>
          <p:cNvPicPr/>
          <p:nvPr/>
        </p:nvPicPr>
        <p:blipFill>
          <a:blip r:embed="rId3"/>
          <a:stretch/>
        </p:blipFill>
        <p:spPr>
          <a:xfrm>
            <a:off x="2612880" y="4000680"/>
            <a:ext cx="2540160" cy="2527200"/>
          </a:xfrm>
          <a:prstGeom prst="rect">
            <a:avLst/>
          </a:prstGeom>
          <a:ln w="0">
            <a:noFill/>
          </a:ln>
        </p:spPr>
      </p:pic>
      <p:sp>
        <p:nvSpPr>
          <p:cNvPr id="354" name="TextBox 6"/>
          <p:cNvSpPr/>
          <p:nvPr/>
        </p:nvSpPr>
        <p:spPr>
          <a:xfrm>
            <a:off x="5153040" y="5942160"/>
            <a:ext cx="26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insurance Treaty</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22:02:00Z</dcterms:created>
  <dc:creator>Kamalei Correa</dc:creator>
  <dc:description/>
  <dc:language>en-US</dc:language>
  <cp:lastModifiedBy>Kamalei Correa</cp:lastModifiedBy>
  <dcterms:modified xsi:type="dcterms:W3CDTF">2012-03-20T07:23:20Z</dcterms:modified>
  <cp:revision>6</cp:revision>
  <dc:subject/>
  <dc:title>Spring Break Project</dc:title>
</cp:coreProperties>
</file>